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74266"/>
        <c:axId val="47710007"/>
      </c:barChart>
      <c:catAx>
        <c:axId val="13274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10007"/>
        <c:crosses val="autoZero"/>
        <c:auto val="1"/>
        <c:lblAlgn val="ctr"/>
        <c:lblOffset val="100"/>
        <c:noMultiLvlLbl val="0"/>
      </c:catAx>
      <c:valAx>
        <c:axId val="47710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74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663D-C257-4851-8400-2CF2870A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0853-A786-4301-923F-E1AF2178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714-0709-44B9-83EC-EBD4DEED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341-2111-4FFA-AE61-6B981EC7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DCC-4168-449C-8DE7-D060EB5B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037-E0F4-4AAE-9FFB-7088954A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95E-1248-4EAF-BCB3-DDC5D388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6CC-C145-4542-BF0E-20457CDA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A02-992C-4467-A51E-A899A44D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545-1EDB-4E9E-9479-712C7B84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B24-803B-4619-B67A-F83E96DD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39A7-582E-4957-A646-4D65172F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63561-E3AE-49C8-9E34-90AE20B575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