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35700"/>
        <c:axId val="61596961"/>
      </c:barChart>
      <c:catAx>
        <c:axId val="58835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96961"/>
        <c:crosses val="autoZero"/>
        <c:auto val="1"/>
        <c:lblAlgn val="ctr"/>
        <c:lblOffset val="100"/>
        <c:noMultiLvlLbl val="0"/>
      </c:catAx>
      <c:valAx>
        <c:axId val="61596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35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C534-F0F1-47C1-967B-756B997E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6E84-1C76-495C-8D5F-01E95C13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AD6B-ACBA-4770-85F8-36BAB43D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C78-17CF-4E46-8056-160510CE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776-FAD4-43A8-AE15-37F0ED46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48E-E018-480D-A6D8-4B52920E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9C5D-4BE1-47CB-B0A7-A611A79D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BD94-56D9-4E6C-A850-506D074B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9DA0-D9AD-47EB-83CB-447DFE5B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2171-1DD5-48E7-B6B7-E25E7294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35C4-1566-4165-9201-A6081627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4E6-5272-4B09-8B3B-C2BA57D2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3C601-BE8D-43B1-8D75-5FCF5EB7E5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