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84664"/>
        <c:axId val="42991554"/>
      </c:barChart>
      <c:catAx>
        <c:axId val="81084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91554"/>
        <c:crosses val="autoZero"/>
        <c:auto val="1"/>
        <c:lblAlgn val="ctr"/>
        <c:lblOffset val="100"/>
        <c:noMultiLvlLbl val="0"/>
      </c:catAx>
      <c:valAx>
        <c:axId val="42991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84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867-CE26-40E6-ABFA-127B90D0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6E1-CFC6-454A-8D17-1C43C90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52B-53D2-4180-B9B9-9523F53A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FE9-8FCD-4231-919A-13329067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9E0-095E-4484-BF46-909612A0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C5E-7052-4FD4-AEFC-E99A40E4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01C-0487-4000-9BAE-C4DACD39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FDD-1893-4A6E-B2D1-29F88F81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685-CF35-4993-86DC-7DF408B9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687-A7CB-4C15-BE83-B89B59D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CAA-E0DD-4775-83A4-2360193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681-90A6-4256-88D6-BD4BE58A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1CAB0-C503-4863-BB3C-5F4FC4A47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