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344598"/>
        <c:axId val="25164516"/>
      </c:barChart>
      <c:catAx>
        <c:axId val="783445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64516"/>
        <c:crosses val="autoZero"/>
        <c:auto val="1"/>
        <c:lblAlgn val="ctr"/>
        <c:lblOffset val="100"/>
        <c:noMultiLvlLbl val="0"/>
      </c:catAx>
      <c:valAx>
        <c:axId val="251645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3445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2457-492D-4FA2-9509-690293945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3C30-71A3-4387-9973-1D40CF81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84EC-6848-4AB5-B849-524215271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0DDA-5666-49EE-B296-86CDC218E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DD60-632F-4852-B794-7EC67B53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7CD0-7287-4835-9505-1AE04278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90AC-8D93-4908-84EF-8DC360C5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A296-6770-42F0-91C7-81A52597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B5BC-311E-477D-8870-2DD8685B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C9D0-4C5D-49AB-9D88-B41594CA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9541-6177-4347-8331-C492E464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3097-E2F2-4FB4-AC68-6B0FE303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BC2BD-245B-4AD2-8533-1D2859DC18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