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50465"/>
        <c:axId val="73485850"/>
      </c:barChart>
      <c:catAx>
        <c:axId val="78650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85850"/>
        <c:crosses val="autoZero"/>
        <c:auto val="1"/>
        <c:lblAlgn val="ctr"/>
        <c:lblOffset val="100"/>
        <c:noMultiLvlLbl val="0"/>
      </c:catAx>
      <c:valAx>
        <c:axId val="73485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50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BF9-6908-4A69-A983-1AEE05BA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353-CE7F-40EB-8E6B-DB6BF0AD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0C9-F87A-4808-A0D4-05853CA5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69C-9328-43D5-B362-9FFAF658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93E-8F82-4F88-805B-9093C9A7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075-2E37-4B52-92B9-2206E4F4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617-021F-4924-B15B-CA25D6C1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62F-987A-4823-B0E4-59543163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55C-FAB4-4269-94D9-E8E2D8F6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7FD-D492-4C8E-AA2D-601A3CCA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A97-4F64-4909-A8C6-571D09F7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9394-055D-4728-B68C-7111D0A1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D7DFA-8407-476C-A8AA-288AACC4EF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