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7371153"/>
        <c:axId val="74225632"/>
      </c:barChart>
      <c:catAx>
        <c:axId val="8737115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225632"/>
        <c:crosses val="autoZero"/>
        <c:auto val="1"/>
        <c:lblAlgn val="ctr"/>
        <c:lblOffset val="100"/>
        <c:noMultiLvlLbl val="0"/>
      </c:catAx>
      <c:valAx>
        <c:axId val="7422563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37115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3F177-6D66-4576-BBA2-BEB6209C4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BF182-CE63-4A83-A27C-C9C4310E0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D159F-8009-4192-8E6C-4A0B7159C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B1600-6619-4CEF-9183-2FD246FE9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7F342-3A2D-4920-A4D6-3F6A48AFC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111B3-E18C-462E-BB23-B9D082036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C67BB-2F70-4214-9BB0-4DF9A8C25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FB8E0-FD2A-477F-B35B-3A8340220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1C6CD-4A9E-4841-A61E-929C4418D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05619-A7C0-49FC-9D3C-F502E0E78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038E0-0CEE-48DC-A704-F6D949E1C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FBA5F-862F-4B30-990C-D34117126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63721D-A3DE-4A2B-ABCB-2D7D7012B41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