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94677"/>
        <c:axId val="84500820"/>
      </c:barChart>
      <c:catAx>
        <c:axId val="34794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00820"/>
        <c:crosses val="autoZero"/>
        <c:auto val="1"/>
        <c:lblAlgn val="ctr"/>
        <c:lblOffset val="100"/>
        <c:noMultiLvlLbl val="0"/>
      </c:catAx>
      <c:valAx>
        <c:axId val="84500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94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0E8-7FA3-474C-BE12-828CB1F5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E966-FA99-4D7A-9AAF-4B3C3518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18A-E482-4528-86BC-5F36F564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184-88AA-4106-933D-01CAB624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D82-4610-4D86-B599-D1F158AF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DE1-232D-49E0-8CA5-C41FB8C6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7564-45B2-47B7-85D5-F22F0E9E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8B4-D126-468F-91C8-71DA2F5A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0CA-D251-4595-923C-AA728319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0D5-C752-4CA7-ABBC-E14F93DA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DAD-0C9B-4A19-B856-0B4A44C1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709A-F0D0-4853-B109-94872A81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1C439-7C90-4184-BF8D-E98782979E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