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70231"/>
        <c:axId val="78527456"/>
      </c:barChart>
      <c:catAx>
        <c:axId val="36470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27456"/>
        <c:crosses val="autoZero"/>
        <c:auto val="1"/>
        <c:lblAlgn val="ctr"/>
        <c:lblOffset val="100"/>
        <c:noMultiLvlLbl val="0"/>
      </c:catAx>
      <c:valAx>
        <c:axId val="785274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70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143A-8D03-41BD-A424-4C82313C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39E-30E3-4B1A-8E85-77E3BA95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9520-4669-4EAB-BC30-DB49C61B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9BE6-4A21-4234-B313-AB669A1B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D8DB-90E1-4803-9FD1-84872DF9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723-9C84-42BA-B341-8E7537DC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1B4B-5774-4481-82F6-3CBFFCBC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C064-9303-4DBE-BB34-0ED806D2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624-3A88-4CE9-8013-741AB814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D85-CB06-4BEC-B23C-F6B41F76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D2A-8A11-496E-B3C4-3DF8CFBA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CA5-9EAC-43E7-B510-FC17358B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E95F7-DDDE-4EF2-BE57-82FE033D20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