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83695"/>
        <c:axId val="8445782"/>
      </c:barChart>
      <c:catAx>
        <c:axId val="86083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782"/>
        <c:crosses val="autoZero"/>
        <c:auto val="1"/>
        <c:lblAlgn val="ctr"/>
        <c:lblOffset val="100"/>
        <c:noMultiLvlLbl val="0"/>
      </c:catAx>
      <c:valAx>
        <c:axId val="8445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83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924-E36B-4D09-8C26-1DF70A32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B9F-A1F1-4C4C-99EF-C89E8764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F48-4589-42B2-A000-A68D26B7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9FB-9E73-4168-9759-765DB9B1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8E9-2C85-4B63-BB88-60D59E08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9A7-BEB6-4F27-957D-E8777D9D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65D-A594-42B7-921C-DB625C12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B67-062A-4DA4-9F38-37FA7982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C52-51CA-4676-9CFB-02982925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B50-D007-4753-8A72-E6C808E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172-3B41-4478-9007-C35405D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D49-E997-4703-8090-7BD953BF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782E0-1650-4183-A114-60B0C0F9A0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