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536981"/>
        <c:axId val="3942963"/>
      </c:barChart>
      <c:catAx>
        <c:axId val="865369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2963"/>
        <c:crosses val="autoZero"/>
        <c:auto val="1"/>
        <c:lblAlgn val="ctr"/>
        <c:lblOffset val="100"/>
        <c:noMultiLvlLbl val="0"/>
      </c:catAx>
      <c:valAx>
        <c:axId val="39429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5369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9B15-0A31-4BA6-93EF-2AB1AC764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B405-C8AA-4CDE-B741-6F4606FE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883C-3EE4-475E-A12C-E9D3C8CD5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028B-EEC3-4FA8-BBAE-7A0D0231F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6263-8E3C-456E-8688-F30FFB0A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0CAB-8FC5-4FF0-AAF5-114744B3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C860-53AF-464C-8CAD-A6C59BE6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EFB1-4B7D-44B5-B99C-3BA52129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E980-91A4-4A5C-9A92-05D80308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649D-E04C-49FB-9238-44414DCF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EFA2-D2FD-4D0A-984C-9A360588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2AF1-7F58-46E8-A269-99291607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559069-CC6E-4216-ADE7-D5A2AA378C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