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75875"/>
        <c:axId val="16093176"/>
      </c:barChart>
      <c:catAx>
        <c:axId val="12875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93176"/>
        <c:crosses val="autoZero"/>
        <c:auto val="1"/>
        <c:lblAlgn val="ctr"/>
        <c:lblOffset val="100"/>
        <c:noMultiLvlLbl val="0"/>
      </c:catAx>
      <c:valAx>
        <c:axId val="16093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75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7D3-071F-465A-AB46-A951AC68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644-3619-4943-BFAF-1FDA9A38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454-6518-4F29-8E17-3D8D962B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2A4-578C-457B-9204-4F9BA6FC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9AC-77EF-4005-9547-FA77F1A1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A73-DFC2-45AE-AFD5-34C635BA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007-9DB3-46E3-B0D7-54AAEE14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87A-C52D-423D-A632-A84CFEFD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096-E29B-4022-A88E-B17AB6A1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902-90FC-4A20-BD9E-BF071D69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518-3AF1-4904-8E88-084F900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5B3-55E7-4818-BEE6-C061AAD4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CF6D6-D5E3-4E26-AEF8-F2061F715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