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8623"/>
        <c:axId val="15004467"/>
      </c:barChart>
      <c:catAx>
        <c:axId val="8740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4467"/>
        <c:crosses val="autoZero"/>
        <c:auto val="1"/>
        <c:lblAlgn val="ctr"/>
        <c:lblOffset val="100"/>
        <c:noMultiLvlLbl val="0"/>
      </c:catAx>
      <c:valAx>
        <c:axId val="15004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67D-03B0-454B-9D80-0E49F12F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993-E1B5-458A-B367-31B9D30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E47-D623-45FC-B9A7-3D84A0CF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4C0-F565-4CF4-832A-B6B06878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C3B-1A86-4662-8207-AE78BAE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9C1-5B71-4462-A129-1032972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935-6DC8-41B1-965B-6B6230B3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3E4-620A-4985-B2BF-C97CDD6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175-D2F3-454F-8019-FB1B47F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FE0-CFFA-41E5-A9F2-EAA232CF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CF7-AB73-45F7-9632-C1D0E3F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D2A-B97C-4BC3-B9DC-12E3744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EC327-421B-4388-A2C0-1D8F4341C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