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02985"/>
        <c:axId val="19725653"/>
      </c:barChart>
      <c:catAx>
        <c:axId val="85902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25653"/>
        <c:crosses val="autoZero"/>
        <c:auto val="1"/>
        <c:lblAlgn val="ctr"/>
        <c:lblOffset val="100"/>
        <c:noMultiLvlLbl val="0"/>
      </c:catAx>
      <c:valAx>
        <c:axId val="19725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02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6D0-A35E-4EB3-A17A-3303E0F7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C0C-2668-4271-A769-3C9068D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0FE-558F-4409-9845-49D3CD1D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75A-5EE7-4156-8306-4244D475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EE9-D40F-4A99-900E-3A9C82D7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62F-A5D3-41E3-ABE3-5028813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C6D-4274-46A0-B0FB-7C434B7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3A1-2F56-4FE4-92D5-DFFA5A1D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BAB-3D2F-453C-B7B2-ADC9794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A9A-22B5-4361-B59C-ADE7DC3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E03-6210-4D56-B424-A10C559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D42-7F42-4532-B408-B28DF6B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325B-DF9A-493E-A690-261680D80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