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45717"/>
        <c:axId val="66855821"/>
      </c:barChart>
      <c:catAx>
        <c:axId val="496457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55821"/>
        <c:crosses val="autoZero"/>
        <c:auto val="1"/>
        <c:lblAlgn val="ctr"/>
        <c:lblOffset val="100"/>
        <c:noMultiLvlLbl val="0"/>
      </c:catAx>
      <c:valAx>
        <c:axId val="66855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57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10F-A48A-4567-8F1B-5274AE395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B8AA-39A1-4826-A3EE-2D347F9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071-A3AF-46BE-8F74-4556E110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6F8D-0597-423B-BF6F-1B5A6A3F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32D-AA44-48E4-8A0B-80DCAFB0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A2F-9E9D-4D66-978C-CCF32764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D46-2FDE-4FD5-8C28-5084CBF8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766-ADEE-4BA6-899A-378F1EF1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0618-929D-494F-8993-1B3A575D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D5C1-9661-4031-96B1-0866AB8B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9873-ED7C-44D7-B50D-C798CD5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C69-02A6-4F1F-AF9E-5858CA0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F1CFF2-4742-44A5-8AF2-C310A7B330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