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98880"/>
        <c:axId val="91447970"/>
      </c:barChart>
      <c:catAx>
        <c:axId val="76998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47970"/>
        <c:crosses val="autoZero"/>
        <c:auto val="1"/>
        <c:lblAlgn val="ctr"/>
        <c:lblOffset val="100"/>
        <c:noMultiLvlLbl val="0"/>
      </c:catAx>
      <c:valAx>
        <c:axId val="914479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98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17A-63A6-4819-A893-CC1E048F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1CF-8C27-4259-905E-C2622AEA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F26-4256-4DCC-9514-F0FD2F67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905-D932-4FCA-B8BB-D85B4309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DFF-52AF-43F3-B104-E4A0D32C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404-5B2C-4F31-A155-91B170D7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5E7-610E-4466-B777-F3EB44DC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C84-0ECF-404C-8865-FEF89A03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940-6BD1-4650-BFD5-491F5625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72C-1CD3-4466-BCD2-0A66B092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671-75B5-47BB-9ACD-186900AE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6AA5-0729-4947-BC1E-408FE888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0BEB9-D6BF-481D-9098-3DB9B65B3A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