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27261"/>
        <c:axId val="10166491"/>
      </c:barChart>
      <c:catAx>
        <c:axId val="52027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66491"/>
        <c:crosses val="autoZero"/>
        <c:auto val="1"/>
        <c:lblAlgn val="ctr"/>
        <c:lblOffset val="100"/>
        <c:noMultiLvlLbl val="0"/>
      </c:catAx>
      <c:valAx>
        <c:axId val="101664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27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16FE-D8D6-4C30-B673-A5F39957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3EA-B717-4700-B57A-1D81B6C2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878-B565-4578-92DB-BE8ABDF2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317-357C-4115-A0B0-353AC5D4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4513-B486-409A-BCB5-0C9E1813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64BA-4CE9-4391-BC8E-E1ADD481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D0F5-AC14-4A64-A134-A62F8204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E87-9839-4304-BFB3-78493F09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B63-E37C-4603-8B3C-AAF00B09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200-2479-4CBB-8274-68FC149E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16E1-ED64-4BC5-A76C-472E0160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6B48-B798-42AF-A3A3-492A96F6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14B4B-885D-4B64-918A-CC810C1716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