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49606"/>
        <c:axId val="21785826"/>
      </c:barChart>
      <c:catAx>
        <c:axId val="493496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85826"/>
        <c:crosses val="autoZero"/>
        <c:auto val="1"/>
        <c:lblAlgn val="ctr"/>
        <c:lblOffset val="100"/>
        <c:noMultiLvlLbl val="0"/>
      </c:catAx>
      <c:valAx>
        <c:axId val="217858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496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0F1-012B-4F73-BA40-60AB6016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A9FD-3E72-4AB7-B37C-AB6F2029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40F7-A0CF-433D-B035-4555CB60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8A1-63C6-4106-84F6-C0225B2A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D9A1-156B-419B-A2FF-21F91D6B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4DB6-F304-4BB6-BC8F-F9832F91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4F7F-2B80-4AEF-B35A-38621758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CFB2-0C9A-4D8E-AAE2-B08EAD31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0638-DF39-4967-BE41-429A6294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BF5F-3ADA-4A5F-9BF0-9C719ACD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0CB-4DE0-45E8-A25A-81425DEA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5F96-2190-4AB3-B42B-9E335CE3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62EC7-C42A-492C-BC51-D7BDBA5CF7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