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63434"/>
        <c:axId val="74847394"/>
      </c:barChart>
      <c:catAx>
        <c:axId val="98863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47394"/>
        <c:crosses val="autoZero"/>
        <c:auto val="1"/>
        <c:lblAlgn val="ctr"/>
        <c:lblOffset val="100"/>
        <c:noMultiLvlLbl val="0"/>
      </c:catAx>
      <c:valAx>
        <c:axId val="74847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63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CF3-1BB2-42B2-B41B-5460C35E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F4B-B10C-488A-83AC-41B3B394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7A0-12EA-47AF-A0A4-3D0E54D3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57B-F66A-445E-A76C-84B526AA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D01-B84B-43FB-8F30-550E6A27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862-EFBB-4A93-B0F4-6AC4369E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289-D865-4F67-B327-5F4FD33F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D09-B1A9-4965-B42E-302E9EC2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B3E-665F-4CAE-87C9-1ED7BDCD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53A-8623-4408-B3FB-E68F874A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079-2BD6-4A7F-BBDA-F112494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9C2-8231-4C00-8846-B3BCAF8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9FCF8-579C-4554-8232-B626C29968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