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11994"/>
        <c:axId val="33051672"/>
      </c:barChart>
      <c:catAx>
        <c:axId val="88411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51672"/>
        <c:crosses val="autoZero"/>
        <c:auto val="1"/>
        <c:lblAlgn val="ctr"/>
        <c:lblOffset val="100"/>
        <c:noMultiLvlLbl val="0"/>
      </c:catAx>
      <c:valAx>
        <c:axId val="33051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11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D67-DF0E-4093-BC81-CD2DE8E8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B95-D56F-4336-A272-15968C8F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E18-B4F9-4FD3-8002-927815F0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428-46D4-45E8-9F35-5A1C135B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CF5-9A46-4F5C-A074-1B521F91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065-3F7F-45B1-82E0-A3845D5A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4AB-02C8-4D1D-98E7-2D7C30D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895-122A-4C0F-A64B-867286A1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7CA-48A0-4865-8AA0-CF98E04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B84-A1F8-4AF9-8E48-CDB981E2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2F8-3A0E-41C6-88F0-99823BD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DEF-61AF-4765-9B26-86240A7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E895B-1399-4C1E-8A75-0691672D6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