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779404"/>
        <c:axId val="60522981"/>
      </c:barChart>
      <c:catAx>
        <c:axId val="617794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22981"/>
        <c:crosses val="autoZero"/>
        <c:auto val="1"/>
        <c:lblAlgn val="ctr"/>
        <c:lblOffset val="100"/>
        <c:noMultiLvlLbl val="0"/>
      </c:catAx>
      <c:valAx>
        <c:axId val="605229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794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685E-172E-46DE-A8C3-04AA5D58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B6CF-4C03-4505-8735-2ECE31DA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2804-8C3E-46EE-BC15-64AB1869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E098-E1A2-4578-BA88-C01E60EE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BB87-9BF3-4963-9A89-51A1C9D9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B43A-6158-45D1-84B2-9A39D78F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FA2E-3A46-4E66-943F-B6C4CC58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B20E-D7F9-4481-BE6B-A1B8677A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E654-9185-437D-8EC2-2ABDD6CB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C5C6-CD16-4D6B-9142-A5D81D70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4767-368E-40CA-86CD-A50487B4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445C-538B-4A83-A10A-511F198B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25ED2-1C96-4CB4-9DCB-98899351CF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