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02516"/>
        <c:axId val="26682585"/>
      </c:barChart>
      <c:catAx>
        <c:axId val="87802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82585"/>
        <c:crosses val="autoZero"/>
        <c:auto val="1"/>
        <c:lblAlgn val="ctr"/>
        <c:lblOffset val="100"/>
        <c:noMultiLvlLbl val="0"/>
      </c:catAx>
      <c:valAx>
        <c:axId val="26682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02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936-3D6B-425C-96B7-36EF9821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353-37DD-42AE-9999-2C3A18C0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36B-A3F1-4481-8D1D-58567400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DD4-E7BA-4F34-AFD2-EFB6EE27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B26-D81A-4C63-9D69-937000E0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B50-550C-460E-B12E-8D8C3FCE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21F-EE72-4AB3-9F95-9F9081C1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CC3-4B7C-477C-92CF-BF51557E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789-44C6-4FE2-B2AE-F4DEECF1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A57-C35B-48F6-A37A-75A2D2D2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F61-B87B-43D8-84DC-6D952218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B30-7E1A-4E42-93CA-C029BCB2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6F0C7-48DE-46C4-AA10-3B6C54EE70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