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71140"/>
        <c:axId val="89625717"/>
      </c:barChart>
      <c:catAx>
        <c:axId val="785711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25717"/>
        <c:crosses val="autoZero"/>
        <c:auto val="1"/>
        <c:lblAlgn val="ctr"/>
        <c:lblOffset val="100"/>
        <c:noMultiLvlLbl val="0"/>
      </c:catAx>
      <c:valAx>
        <c:axId val="89625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711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3F9-0DEE-42D9-B8A3-F7E51E0E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676-F6E7-49E1-BD6E-0A6EE62D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99C-71BA-4CC6-9CC0-D7878B8F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7BC-A913-464C-86F3-71D9EDBF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D43-DFF4-4314-86DC-FCA8445E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2B4-EE43-437D-A5CD-0F0BADED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E32E-6661-4125-86F8-14E6071D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B4A9-830E-441A-A7C8-D3683E3B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CD95-858D-4CCE-B804-CD60AB2F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D41A-5878-4E4B-B664-BC8CB49E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D26-E213-4372-9688-DFC00781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65AD-A1EC-4D19-9912-79C52525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B0160-96B9-4A32-973D-26C2EE1DBE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