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40379"/>
        <c:axId val="66696755"/>
      </c:barChart>
      <c:catAx>
        <c:axId val="83340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96755"/>
        <c:crosses val="autoZero"/>
        <c:auto val="1"/>
        <c:lblAlgn val="ctr"/>
        <c:lblOffset val="100"/>
        <c:noMultiLvlLbl val="0"/>
      </c:catAx>
      <c:valAx>
        <c:axId val="66696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40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51EB-27DC-4EA8-AC40-00F74B79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AB6-9426-4148-B4E9-18EA4027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96BC-044C-41BB-A82D-FC25E1F6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19E1-14C6-400C-95E4-5E766BC21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CC56-128E-4257-9B9E-9C99C01F2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CD4-4C53-4ABA-8F17-C7E854AC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3C8-0D55-41CB-84CB-44F817C0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C73-D6BF-4656-AECD-F6334591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F5B-8A0E-422A-BE63-E2BFC1A4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6C38-C5B7-4516-A764-069643F8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4801-1DA3-46DB-BD85-B7C1B657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D3E3-9983-4AA9-B289-FA7E2419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717DC2-33C5-4CA6-8381-6EA3E95469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