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31562"/>
        <c:axId val="18152846"/>
      </c:barChart>
      <c:catAx>
        <c:axId val="52431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2846"/>
        <c:crosses val="autoZero"/>
        <c:auto val="1"/>
        <c:lblAlgn val="ctr"/>
        <c:lblOffset val="100"/>
        <c:noMultiLvlLbl val="0"/>
      </c:catAx>
      <c:valAx>
        <c:axId val="18152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1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6F5-9803-4125-8BC3-3C78BA28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A30-55A5-46EC-880D-B4CF5AF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8F0-0FD0-4650-9936-CCF27C0F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EB3-5EE7-4511-A28E-28086929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2DA-A819-4DA3-B2AA-2AF9761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9CF-315E-4D10-9F69-80022DA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24F-74DF-4CFE-B87B-4B45BF1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EE3-9A72-4BA3-990D-CC50DE91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D3F-B961-4C8A-BE35-CFFA6BA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AB7-A7E9-47B3-A0E3-9E691C7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795-1831-4B0F-BC24-1064755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3FB-3F77-42DB-AF52-962D69E6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799F5-3638-4F2A-9A62-A62ADAE1C8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