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84590"/>
        <c:axId val="85641468"/>
      </c:barChart>
      <c:catAx>
        <c:axId val="29984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1468"/>
        <c:crosses val="autoZero"/>
        <c:auto val="1"/>
        <c:lblAlgn val="ctr"/>
        <c:lblOffset val="100"/>
        <c:noMultiLvlLbl val="0"/>
      </c:catAx>
      <c:valAx>
        <c:axId val="85641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84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8FD-2CDE-417C-854C-F33404F2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BEA-CD33-4FD9-B7E8-E9BA1F39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207-6F1F-433C-9A90-F77B03F2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E76-6BC3-43F2-AC3B-FC9D11A7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E32-3AC2-4FD8-A442-92D9B48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7AB-928C-47C3-B71C-A67336C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2F8-BAB0-4156-9B61-37BCBE9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159-70B5-48EC-A675-DDEAE202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992-C502-4C67-9720-939CE24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1C4-2ABD-4695-8192-9CFEFF9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042-C1CB-4D70-8CA2-31CAD43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ED2-BBAC-4B6F-9793-7F7E1DB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E2189-9938-4400-A415-33CF8C61CE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