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13015"/>
        <c:axId val="83674125"/>
      </c:barChart>
      <c:catAx>
        <c:axId val="79013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74125"/>
        <c:crosses val="autoZero"/>
        <c:auto val="1"/>
        <c:lblAlgn val="ctr"/>
        <c:lblOffset val="100"/>
        <c:noMultiLvlLbl val="0"/>
      </c:catAx>
      <c:valAx>
        <c:axId val="83674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13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9D9-6F12-4296-8819-911C8FB4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5B4-E75B-428A-83FB-AF497CB7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D69-DB2A-40C1-A796-0A6226CA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AAB-A8DE-4E06-925A-24101CCC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A42-A36D-4E2C-AB8E-283C4682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E6A-1737-4DA7-BBB9-308EB62C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8B1-45E3-49E7-A5BD-1681370D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1D8-9C9F-4ADA-9351-425E079D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F19-2819-4189-A188-033D52F5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10D-B714-40B9-8F01-F981FD13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E3F-76A5-43E0-8C13-0AEABB6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85F-458A-463E-9ADE-D73E95B7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B9BB8-B4DA-4106-883F-447DADBF65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