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2541453"/>
        <c:axId val="74655376"/>
      </c:barChart>
      <c:catAx>
        <c:axId val="4254145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655376"/>
        <c:crosses val="autoZero"/>
        <c:auto val="1"/>
        <c:lblAlgn val="ctr"/>
        <c:lblOffset val="100"/>
        <c:noMultiLvlLbl val="0"/>
      </c:catAx>
      <c:valAx>
        <c:axId val="7465537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54145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A75C8-03F6-4939-BCB0-DE3060D57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1721E-061A-4951-84DB-5CF2CB86D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BA245-1AC3-4384-9FA4-10C085A98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2D3F9-DFE7-4F76-9524-0E53855C6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04120-A1BA-4A16-B86D-E2D11DE3F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8089A-8D1B-44DC-9E81-9BAAA42E3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166C0-A17C-46D0-99DE-67D0DD3BB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C3941-CBA4-4F8F-BF12-79A48BC92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102C5-8AEB-4734-9EF2-EF984C76D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0928C-186C-4273-83AD-5377B5477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C1B2E-F3F0-4E99-8C6B-CD4DB9A82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6447C-6659-4121-BF66-053655AC8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1887BC-5071-478A-9E7A-52E900CAD50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