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43148"/>
        <c:axId val="85349771"/>
      </c:barChart>
      <c:catAx>
        <c:axId val="68843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49771"/>
        <c:crosses val="autoZero"/>
        <c:auto val="1"/>
        <c:lblAlgn val="ctr"/>
        <c:lblOffset val="100"/>
        <c:noMultiLvlLbl val="0"/>
      </c:catAx>
      <c:valAx>
        <c:axId val="85349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3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26A-6EE9-49A1-A511-83F1E26C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288-E04F-4F3C-9201-9067CAB2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4BF-E0BA-412C-8B78-0D3CF5E6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01B-6A4A-421F-9641-28C89E4F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4EE-F0F1-40BF-BCE9-0A721C7F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349-B52B-4FCC-AF73-7C0A604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705-F112-4459-AC50-78551393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F7B-370F-457E-B776-40F9FEBF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F9A-6565-4D04-89A2-E795BB95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57D-36C3-4001-ACBB-34AF522D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913-648D-4D0D-A22F-FF68A24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516-08B5-4190-B175-E145AB5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EC499-ECDD-46FE-BFF5-9FA4C1B26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