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96801"/>
        <c:axId val="85882591"/>
      </c:barChart>
      <c:catAx>
        <c:axId val="12996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82591"/>
        <c:crosses val="autoZero"/>
        <c:auto val="1"/>
        <c:lblAlgn val="ctr"/>
        <c:lblOffset val="100"/>
        <c:noMultiLvlLbl val="0"/>
      </c:catAx>
      <c:valAx>
        <c:axId val="858825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96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AD7-038C-46CE-9A04-04BEBA9C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974-7659-42CA-A843-EBBF5BCA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E53-C301-4C06-8834-300AD9DD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B09-ABE2-4C45-B054-B2066759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F04-F2FC-45CC-BE33-75DB9C5C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526-EF0F-48F2-A074-65D564A2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2C2-AE4B-4E4A-93FE-8A3BBBBF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E9D-0B08-4C41-B86B-715A7730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713-F024-4599-A0AE-C5E7DE60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32F-013E-49C6-8F73-C292B7E3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22F-F008-4C7B-B36D-EB39FFD5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EB8-1FB1-42AD-932F-553B5BDA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1B673-5AAB-4020-97E7-B79FE66514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