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6684"/>
        <c:axId val="85770834"/>
      </c:barChart>
      <c:catAx>
        <c:axId val="17636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70834"/>
        <c:crosses val="autoZero"/>
        <c:auto val="1"/>
        <c:lblAlgn val="ctr"/>
        <c:lblOffset val="100"/>
        <c:noMultiLvlLbl val="0"/>
      </c:catAx>
      <c:valAx>
        <c:axId val="85770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6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130-E147-4835-80D4-2EDE8FB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42A-C1A2-4657-96E1-AD0EACF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B31-F471-4701-8045-5FC1693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BF2-996E-450E-AC39-E8F36B0B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2C1-A7BC-41BA-9DA4-8A13312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BEA-D47D-4CD2-A50F-DFA0561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872-3F25-4FE3-A36A-1D2AAAD6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94C-8777-4CA5-A714-D0492B4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120-8735-4798-AFF0-ECF945BE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F35-685E-40DD-8073-0A101B0E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354-B4DA-4052-AC55-7CCEDBD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A8A-2EBB-4EDF-9BD3-328EBC5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AC241-E6D7-40F3-BA11-7761A4C77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