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95087"/>
        <c:axId val="14899257"/>
      </c:barChart>
      <c:catAx>
        <c:axId val="58895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99257"/>
        <c:crosses val="autoZero"/>
        <c:auto val="1"/>
        <c:lblAlgn val="ctr"/>
        <c:lblOffset val="100"/>
        <c:noMultiLvlLbl val="0"/>
      </c:catAx>
      <c:valAx>
        <c:axId val="14899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95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526-303A-4954-B179-CF2980AC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211-5592-493E-A056-AC892166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3A4-6EDD-4756-AAE7-EFCDBF55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58A-6F73-48C5-9D94-8CA43CBA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F19-3F9C-4D90-84DA-032B2501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B40-D77F-4C68-A2B6-ADEDBA4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3F0-BE43-4D26-89C8-DD3F397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559-16B4-45EC-B0AA-A4B647E8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EC5-62C7-4C04-9B3E-C247803D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20D-68E2-4B48-B7EC-A4A39EA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286-370E-4B3D-8108-90D556C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656-EC3E-4E62-A6A9-B797A13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A4ABC-ED88-494E-B1B9-858C336B24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