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82941"/>
        <c:axId val="53280772"/>
      </c:barChart>
      <c:catAx>
        <c:axId val="78982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0772"/>
        <c:crosses val="autoZero"/>
        <c:auto val="1"/>
        <c:lblAlgn val="ctr"/>
        <c:lblOffset val="100"/>
        <c:noMultiLvlLbl val="0"/>
      </c:catAx>
      <c:valAx>
        <c:axId val="53280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82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A0B-0195-4502-97A8-167C024F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CEA-A3DC-4152-A3C8-F5E8FD2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993-AFE5-4062-851B-EF7DB192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85E-193D-4731-93C6-26040330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6F4-2DB8-4721-B393-C0D8855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D21-2F71-4801-9AF0-7E07F5B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7DD-35DF-4449-825A-72915A4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EE2-FE54-4BB4-AE8E-D8C96E32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80D-46D5-4B81-ACAC-C7D361F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105-B1B7-4772-AC6D-1E5941B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AC9-6E67-49BE-B2E4-9E5E54F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DF5-B973-4A09-9808-2C988C9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C84D-6C83-4732-9791-4B543C070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