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94184"/>
        <c:axId val="56757501"/>
      </c:barChart>
      <c:catAx>
        <c:axId val="30894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57501"/>
        <c:crosses val="autoZero"/>
        <c:auto val="1"/>
        <c:lblAlgn val="ctr"/>
        <c:lblOffset val="100"/>
        <c:noMultiLvlLbl val="0"/>
      </c:catAx>
      <c:valAx>
        <c:axId val="56757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94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484-F487-41BE-9F1F-5073F6FE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C4C-D90C-4064-8ECD-8483795F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B66-AB25-4A6E-9A09-1CBFB87E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9E8-AA6C-433F-BC73-68B50D69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18A-AA0C-43FE-88EB-71C8B0A1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BBC-D470-45A5-8016-6331D13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416-A338-4DFB-BBF3-C23F8A34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AA4-8223-46FB-9453-4083B788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358-78E4-4D3D-879B-21A74757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08F-BA85-411C-80AE-DA66441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DB3-BB3C-402B-8A53-3048F86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B8C-FD9A-4A4C-9114-2F7B5191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761C3-F27D-40FE-8E25-098C27FE58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