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21185"/>
        <c:axId val="70051314"/>
      </c:barChart>
      <c:catAx>
        <c:axId val="95221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51314"/>
        <c:crosses val="autoZero"/>
        <c:auto val="1"/>
        <c:lblAlgn val="ctr"/>
        <c:lblOffset val="100"/>
        <c:noMultiLvlLbl val="0"/>
      </c:catAx>
      <c:valAx>
        <c:axId val="70051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21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2F3-A716-4471-8C33-55D3D564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BDA-0204-41D2-96FC-B197EA4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CFE-B22B-493F-A66B-E0D0F878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61F-D8C9-4DFE-B08E-6820AB95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D80-EA6A-4D79-86AE-0E46AFC5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AD4-B525-4B4D-BC58-F68273A4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69E-ADBA-4F07-A27F-940F4FCF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41C-9FF6-4238-8A6C-5470A6B4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B74-47B2-4790-A84F-3CFB7556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040-B088-42E3-9697-D1EADBA9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B03-38A3-4EEC-9879-DCABF19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97F-B17D-4CAE-90B5-9C02982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8DAAA-C313-453A-9D3A-F6643D0D6E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