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381184"/>
        <c:axId val="7014297"/>
      </c:barChart>
      <c:catAx>
        <c:axId val="523811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4297"/>
        <c:crosses val="autoZero"/>
        <c:auto val="1"/>
        <c:lblAlgn val="ctr"/>
        <c:lblOffset val="100"/>
        <c:noMultiLvlLbl val="0"/>
      </c:catAx>
      <c:valAx>
        <c:axId val="70142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811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76BC-3A16-47F2-B0C9-89D065FA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5F9A-E326-4422-BAF4-043474BC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794E-CE10-41FB-9B21-150EB30B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AA9E-20C1-4D0E-A199-85015873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2153-18A1-4EA0-8576-C6079116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79A3-6457-41F2-98F4-27EE01E5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F959-5F26-47AC-ADB9-75F1F401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0722-FECB-43A5-993B-47BFA702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14FD-0A96-4700-A40E-486F74E2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C1B7-705F-4491-ACBD-CEAE13C4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4E38-420F-4F4A-BE44-9BC346B1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9C3B-5ACC-4B6C-89FD-79CF1C7D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60D87-D8EC-40BA-8D01-2A81A4023A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