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05562"/>
        <c:axId val="37167797"/>
      </c:barChart>
      <c:catAx>
        <c:axId val="43405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67797"/>
        <c:crosses val="autoZero"/>
        <c:auto val="1"/>
        <c:lblAlgn val="ctr"/>
        <c:lblOffset val="100"/>
        <c:noMultiLvlLbl val="0"/>
      </c:catAx>
      <c:valAx>
        <c:axId val="37167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05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C09-CB35-458D-9010-6A1798E6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C39-86F2-4BC5-87A0-831F5976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559-9303-448F-BE16-631200AA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A52-6E7B-4735-808F-40507D67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B32-5EA0-4584-9AD9-041E74C0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A4C-8AA2-4409-9F18-7EBC58E2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428-3B2F-448D-B736-5539E3B8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1E1-8A4F-4C63-A803-335F4735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77D-0B4F-467E-8698-3648CA6D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AD0-C8E3-46BC-9411-C87C0489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47D-191E-4A61-A5D9-A31F27D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44A-3BC0-44EF-AFA2-80682AFC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2A10B-17AB-4B58-9E16-F8D938EB00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